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FB89-3371-4F56-ACD9-7E8CF7F90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4A7B-2C87-4045-A470-AB63900C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A1A8-EE54-4DB4-A6C0-129BABFDD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CA05-DF90-4082-A1A5-EC40B7377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EE57-2C31-4924-990F-2D6A1DE6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DCF0-CF80-4E2D-ADA1-AAD47D07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289E-7CBF-4A8E-ACD9-662C12DC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FED7-C383-4DF3-BEAD-BBFE1EA1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57F3-D2E7-477A-9D46-0B3D8963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A0FE-8848-4811-83F4-0EF4DC87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2455-EB07-4C8A-A3F0-23B4DDCD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447A-6D2A-478F-BD08-61486BA2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9553-F1B8-4D43-98C7-690E449B273D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Polska w Traktacie Wersal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971640" y="1052640"/>
            <a:ext cx="7018200" cy="5487840"/>
          </a:xfrm>
          <a:prstGeom prst="rect">
            <a:avLst/>
          </a:prstGeom>
          <a:ln w="0">
            <a:noFill/>
          </a:ln>
        </p:spPr>
      </p:pic>
      <p:pic>
        <p:nvPicPr>
          <p:cNvPr id="42" name="Title 1" descr=""/>
          <p:cNvPicPr/>
          <p:nvPr/>
        </p:nvPicPr>
        <p:blipFill>
          <a:blip r:embed="rId2"/>
          <a:stretch/>
        </p:blipFill>
        <p:spPr>
          <a:xfrm>
            <a:off x="396720" y="11592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7:12:17Z</dcterms:created>
  <dc:creator>IB</dc:creator>
  <dc:description/>
  <dc:language>en-US</dc:language>
  <cp:lastModifiedBy>rena</cp:lastModifiedBy>
  <dcterms:modified xsi:type="dcterms:W3CDTF">2013-03-05T18:00:07Z</dcterms:modified>
  <cp:revision>2</cp:revision>
  <dc:subject/>
  <dc:title>Slajd 1</dc:title>
</cp:coreProperties>
</file>